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7.png" ContentType="image/png"/>
  <Override PartName="/ppt/media/image6.pct" ContentType="image/x-pict"/>
  <Override PartName="/ppt/media/image8.png" ContentType="image/png"/>
  <Override PartName="/ppt/media/image10.pct" ContentType="image/x-pict"/>
  <Override PartName="/ppt/media/image9.pct" ContentType="image/x-pict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D2E-9AE6-4E8D-A033-2AB10C2E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8CB-C076-4A3B-B475-5707F2D1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E47-4BE7-4B48-BD82-ED5A9199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968-08AB-46DA-A99B-6B2B6FD9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08FD-B303-4052-9161-92F1FFE1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68A7-69D1-4689-A594-BED885A7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F13-7FEE-4252-B671-9B0C084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A68-175D-46F1-8CD1-A1467069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2DC6-370F-4493-A207-2CDFAFC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9672-1325-4351-AE87-14436B8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736-73D2-4EE8-8634-3C0D9A7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978-BD29-4E2C-AB51-26EA913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2940-E39E-4D77-BCDF-CC165E10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4534-0DD8-4773-BC71-0E8D177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2370-2E89-4DBB-AAD0-6CC38E8F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05C-A36B-4A01-B5C9-ECF05F8F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6B6-F2FA-4254-8C3A-D78A8535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F66-1520-413E-A9EC-3C3E00A5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896-8DE6-4204-90D2-0D87D0E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26B-A3C7-4261-A75B-F9A3A000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835-251C-4EC2-BEC8-A415343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E84-D20F-4ABA-B357-561EA0C7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A92-0D0B-44A0-9729-5C1C92F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014-006C-4B9E-8C90-F45BB12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E8BE8-1137-41C8-9317-AB599675C80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1CFDD-5C5B-4D0B-96C2-EC7E2F354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691F7-2DDE-4A39-96A6-57BF5CF63AA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518B4-11AB-428D-9EF1-853286A108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video" Target="file:///tmp/home/.config/libreoffice/4/user/gallery/Embedded%20Sound%201" TargetMode="External"/><Relationship Id="rId4" Type="http://schemas.microsoft.com/office/2007/relationships/media" Target="file:///tmp/home/.config/libreoffice/4/user/gallery/Embedded%20Sound%201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3" TargetMode="External"/><Relationship Id="rId2" Type="http://schemas.microsoft.com/office/2007/relationships/media" Target="file:///tmp/home/.config/libreoffice/4/user/gallery/Embedded%20Sound%203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4" TargetMode="External"/><Relationship Id="rId2" Type="http://schemas.microsoft.com/office/2007/relationships/media" Target="file:///tmp/home/.config/libreoffice/4/user/gallery/Embedded%20Sound%204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9040" y="7617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31210"/>
                </a:solidFill>
                <a:latin typeface="Arial"/>
              </a:rPr>
              <a:t>BURNS</a:t>
            </a:r>
            <a:endParaRPr b="1" lang="en-US" sz="96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5029200"/>
            <a:ext cx="2844720" cy="1139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1506240" cy="1434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59760" y="3556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67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677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How to determine the degree of the burn!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b35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3530"/>
                </a:solidFill>
                <a:latin typeface="Arial"/>
              </a:rPr>
              <a:t>1st degree burn- only the outer layer of skin is burned and turns red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1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1204"/>
                </a:solidFill>
                <a:latin typeface="Arial"/>
              </a:rPr>
              <a:t>2nd degree burn-a serious burn in which the burned area blister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c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01"/>
                </a:solidFill>
                <a:latin typeface="Arial"/>
              </a:rPr>
              <a:t>3rd degree burn-a very serious burn in which deep layers of the skin and nerve endings are damaged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What causes burns?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312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1210"/>
                </a:solidFill>
                <a:latin typeface="Arial"/>
              </a:rPr>
              <a:t>Fire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38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3853"/>
                </a:solidFill>
                <a:latin typeface="Arial"/>
              </a:rPr>
              <a:t>Hot objects or liquids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11"/>
                </a:solidFill>
                <a:latin typeface="Arial"/>
              </a:rPr>
              <a:t>Electricity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1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770a"/>
                </a:solidFill>
                <a:latin typeface="Arial"/>
              </a:rPr>
              <a:t>Sun 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7c09"/>
                </a:solidFill>
                <a:latin typeface="Arial"/>
              </a:rPr>
              <a:t>Chemicals</a:t>
            </a: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9543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106200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54480" y="3354480"/>
            <a:ext cx="909720" cy="909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867280" y="2416320"/>
            <a:ext cx="828720" cy="101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33720" y="1955880"/>
            <a:ext cx="768240" cy="91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8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3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8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3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8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1</a:t>
            </a:r>
            <a:r>
              <a:rPr b="1" lang="en-US" sz="4400" spc="-1" strike="noStrike" baseline="30000">
                <a:solidFill>
                  <a:srgbClr val="f31210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 Degree bur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fd7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Submerge burned area in </a:t>
            </a:r>
            <a:r>
              <a:rPr b="0" lang="en-US" sz="4800" spc="-1" strike="noStrike" u="sng">
                <a:solidFill>
                  <a:srgbClr val="1fd7f4"/>
                </a:solidFill>
                <a:uFillTx/>
                <a:latin typeface="Arial"/>
              </a:rPr>
              <a:t>cold</a:t>
            </a: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 water for 10-30 minutes.</a:t>
            </a:r>
            <a:endParaRPr b="0" lang="en-US" sz="4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fd7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Wrap burn loosely in </a:t>
            </a:r>
            <a:r>
              <a:rPr b="0" lang="en-US" sz="4800" spc="-1" strike="noStrike" u="sng">
                <a:solidFill>
                  <a:srgbClr val="1fd7f4"/>
                </a:solidFill>
                <a:uFillTx/>
                <a:latin typeface="Arial"/>
              </a:rPr>
              <a:t>clean</a:t>
            </a: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, </a:t>
            </a:r>
            <a:r>
              <a:rPr b="0" lang="en-US" sz="4800" spc="-1" strike="noStrike" u="sng">
                <a:solidFill>
                  <a:srgbClr val="1fd7f4"/>
                </a:solidFill>
                <a:uFillTx/>
                <a:latin typeface="Arial"/>
              </a:rPr>
              <a:t>dry</a:t>
            </a:r>
            <a:r>
              <a:rPr b="0" lang="en-US" sz="4800" spc="-1" strike="noStrike">
                <a:solidFill>
                  <a:srgbClr val="1fd7f4"/>
                </a:solidFill>
                <a:latin typeface="Arial"/>
              </a:rPr>
              <a:t> dressing.</a:t>
            </a:r>
            <a:endParaRPr b="0" lang="en-US" sz="48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4064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-86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61,11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5,-86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61,11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9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f3121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 Degree bur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Submerge burned area in cold water. </a:t>
            </a:r>
            <a:r>
              <a:rPr b="0" lang="en-US" sz="3200" spc="-1" strike="noStrike" u="sng">
                <a:solidFill>
                  <a:srgbClr val="1c7c09"/>
                </a:solidFill>
                <a:uFillTx/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 pop blisters or remove loose skin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Wrap burn loosely in </a:t>
            </a:r>
            <a:r>
              <a:rPr b="0" lang="en-US" sz="3200" spc="-1" strike="noStrike" u="sng">
                <a:solidFill>
                  <a:srgbClr val="1c7c09"/>
                </a:solidFill>
                <a:uFillTx/>
                <a:latin typeface="Arial"/>
              </a:rPr>
              <a:t>clean</a:t>
            </a: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1c7c09"/>
                </a:solidFill>
                <a:uFillTx/>
                <a:latin typeface="Arial"/>
              </a:rPr>
              <a:t>dry </a:t>
            </a: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dressings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7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7c09"/>
                </a:solidFill>
                <a:latin typeface="Arial"/>
              </a:rPr>
              <a:t>Elevate the burned areas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51760" y="4064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3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f3121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f31210"/>
                </a:solidFill>
                <a:latin typeface="Arial"/>
              </a:rPr>
              <a:t> Degree bur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Call for medical help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Cover the  burned area with a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clean </a:t>
            </a: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dressing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Elevate the victim’s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feet</a:t>
            </a: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arm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000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If possible, have the victim drink </a:t>
            </a:r>
            <a:r>
              <a:rPr b="0" lang="en-US" sz="3200" spc="-1" strike="noStrike" u="sng">
                <a:solidFill>
                  <a:srgbClr val="000b86"/>
                </a:solidFill>
                <a:uFillTx/>
                <a:latin typeface="Arial"/>
              </a:rPr>
              <a:t>small amounts</a:t>
            </a:r>
            <a:r>
              <a:rPr b="0" lang="en-US" sz="3200" spc="-1" strike="noStrike">
                <a:solidFill>
                  <a:srgbClr val="000b86"/>
                </a:solidFill>
                <a:latin typeface="Arial"/>
              </a:rPr>
              <a:t> of fluids.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08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60840" y="16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c1102"/>
              </a:solidFill>
              <a:latin typeface="Calisto MT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59092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8514e6"/>
                </a:solidFill>
                <a:latin typeface="Bertram LET"/>
              </a:rPr>
              <a:t>THE</a:t>
            </a:r>
            <a:r>
              <a:rPr b="0" lang="en-US" sz="9600" spc="-1" strike="noStrike">
                <a:solidFill>
                  <a:srgbClr val="2c1102"/>
                </a:solidFill>
                <a:latin typeface="Bertram LET"/>
              </a:rPr>
              <a:t> </a:t>
            </a:r>
            <a:r>
              <a:rPr b="0" lang="en-US" sz="9600" spc="-1" strike="noStrike">
                <a:solidFill>
                  <a:srgbClr val="8514e6"/>
                </a:solidFill>
                <a:latin typeface="Bertram LET"/>
              </a:rPr>
              <a:t>END</a:t>
            </a:r>
            <a:endParaRPr b="0" lang="en-US" sz="9600" spc="-1" strike="noStrike">
              <a:solidFill>
                <a:srgbClr val="2c1102"/>
              </a:solidFill>
              <a:latin typeface="Calisto MT"/>
            </a:endParaRPr>
          </a:p>
        </p:txBody>
      </p:sp>
    </p:spTree>
  </p:cSld>
  <p:transition spd="slow"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8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6:45Z</dcterms:created>
  <dc:creator>kms kms</dc:creator>
  <dc:description/>
  <dc:language>en-US</dc:language>
  <cp:lastModifiedBy>Kraybill Campus LMS</cp:lastModifiedBy>
  <dcterms:modified xsi:type="dcterms:W3CDTF">2011-05-26T16:18:12Z</dcterms:modified>
  <cp:revision>6</cp:revision>
  <dc:subject/>
  <dc:title>BURNS</dc:title>
</cp:coreProperties>
</file>